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AB0-2016-465A-962D-69C2996A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63E-D7B8-4141-897A-1BD07A0C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3B7D5-4449-4CCA-9A75-4120FC7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CFFA5-2702-4104-B112-CB4ECA87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93FC9-DFED-4BDF-B2CE-30B1976E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8C82-0577-48E7-9700-2F5918DF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790D8-8AAD-40EC-BB26-7F295617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94949-ABF4-4EB1-8538-D625E9CB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39017-24E2-4D84-A7A2-DCEB67A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A65A7-6575-4635-8DAB-44582233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5575C-0099-43D8-9890-18BE51DC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B7440-E044-427A-AD7D-06CA9F6A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919-7762-48B0-8DC5-C867FB79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40645-818A-4DDF-9468-D3891A1C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B23451-6A6C-4886-923A-E4357941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1E16-12EF-41A9-B895-04F2AE69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3A47B-A487-4C10-865A-7658193F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8447E-4B2E-4A5D-853A-8B068ED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A183C-5451-4948-854F-05AF6CCC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72741-9BF4-48A5-9C59-2BAE0C4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B1F15-2870-4995-9085-D0C2AA9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76E88-078D-47E5-9FC1-1183BAAC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2E597-1962-4574-8A57-678B5761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B79-3D1F-49AD-879B-44B88C30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10BA6-E4C9-4820-AB24-89CD3963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4FB6D-2B41-40D5-AF36-539A0114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DD999-34C2-413A-8719-51FEDD1F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927D3-1509-426F-90B7-A249951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F5261-FE8C-4A98-BAC8-CE90B71B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9C592-3917-4575-B9BE-2542A96F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3139E-423F-400F-A10B-74387EE2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08E92-86FB-4003-8763-1EC5D6E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80048-F9E8-4185-B395-DC2BD3D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25153-1320-46EE-97FD-1AD0AD2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C998-5BBF-4023-8E12-8AEB2C7D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0E271-B441-49A7-85B1-FD5134F1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A8B9C-D400-4EDF-9267-C5C80F3F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65C92-783D-4B75-86FC-BE29FD23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3A7ED-1A1D-4BD6-BF6E-08E03138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D1088-AF1B-48CB-A62E-2EA23301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8C017-7C67-44B7-8453-FCAB47BC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DEEFB-5035-4B1A-B4E5-F54B6F13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BDCDE-8529-4682-B5CE-AEFA514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FD0502-C806-4758-A646-72E44AB5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AE4CD-4EA5-4A57-8205-228288C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8F05-388B-499C-A07A-C8260CF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FA595-D178-4644-BBF9-16D7861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271F2-ABEB-4AEE-928F-BBD70F31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467E0-AADF-42F1-929D-C47D63E2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7CD02-35E4-4169-BE34-F3CF3059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800A3-A2DB-4F4F-8CB6-D0FF2EC2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E2BF-0849-4FE0-8A5F-3427C9AD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DCB8-94B5-4F83-926A-A54BA4E7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F2D6-B1ED-4AC3-974F-F3CE9659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3D82-A5E7-4900-9D3D-D0FD0EFB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8FEB-B6C4-4B6B-A2D9-D75F4F49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E90-6C07-4269-9E31-12F47B47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EF4A-EABB-436E-BD1D-BE39E25E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AF03-7C13-4305-B681-87B82338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9862-CFF5-42F8-95BC-AC832976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0A24-A446-4198-A858-E1D6D1DF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4D8A-5CAF-4CB0-8681-F2E4995B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94B3-1D23-45A9-86DF-F2BE8824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E28F-D08D-4423-92EE-E463C07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4EDAD-E8BA-43FE-B07C-706272BF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49F0-5D5C-4D5D-8A76-06B60301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80CCE-DBFD-4094-ACF2-3423A65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ED6-CF7F-4327-96C2-2AE446F1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42C7F-6CB7-40B5-8F49-F80A228F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9E37-9296-4F35-BAF7-941D40A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556B-1476-42AD-9893-6F12CD4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C999-F9CB-4B64-AA10-E1C2A33F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BFD1-603A-429C-A942-CA93A063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3E69-778F-44D7-A7AB-459024C1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1642-E284-44D9-BE41-B4F34C0F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D8479-E27C-45C6-8C4A-A7AC6C34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D920C-EF4D-4FFD-826D-215DE139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CF3B-046F-4E0F-ACAB-4E0AB6D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AA05-66EB-478D-88BC-938AB32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6E4C2-91F5-41A2-AB4A-DBC8EEE1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750D-C6B7-4DF5-9184-FBD20661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B184-CA11-4720-B101-6C9F319F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E1E24-5919-4D86-ABC6-5214FE87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D467-1D69-47AE-8B56-FB0D05BF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0789E-26C4-445D-957B-756FAC85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41626-4104-4E22-9FF2-B9D30648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BEC0-53CD-4C98-8290-BC82C657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0C9E-1CA9-49D4-BFC4-DB92AAE4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F882-1C67-48C5-A073-5A41566D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370-EECD-49D5-AAD5-B92B06AD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CFDB-D729-4B91-B657-333ECFB0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679B-98B9-4159-A729-A11F0161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5D253-3EAC-42FF-B405-4AFDF26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3A39-815F-44AB-990A-147E9A4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203F5-9FB7-4414-8D5D-D6A7E697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FE0C-3898-41A3-A201-C120558B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84BE3-109E-4329-B044-E079B915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7A496-49B6-46C0-A051-9F4E47D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266C-62CF-464C-91F7-6D3EDD0A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9CBDE-D67A-40AA-8BC2-A2F90DE6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9154-F387-41DF-8F4D-7F2DF263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C4124-EC16-42E4-B929-26B83162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5196-31AC-4955-8597-2EAA1D47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A0CC6-00EB-4BAE-96B9-330BDDE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CCA5-040B-4C02-BAD9-5594C82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8A7DC-04B6-4540-8A31-A73D8477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742B-BB15-41E2-83A1-46B0776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81D8A-9923-4270-A472-5FF5E705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65F8A-B2DC-4787-AEFE-5A347AE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ED9A4-BE7B-4A5E-99A0-01F84C7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20405-AA5A-4A56-976B-3F369825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56A-87B2-491E-AB22-1B1AD8EF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31A6-156F-467F-8616-03B9BC87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5464-C530-44B0-A330-FE203E8C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6710C-F706-4B99-B05F-7F43825B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2352B-27F4-472B-8180-13EE9DA8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DD713-8CFB-46AC-AE92-9CD831B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8901A-1EB1-43DE-825F-F52B0E58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0E00B-3F49-4999-B320-D206A33C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8DDD6-6C0E-404D-B9B0-C468F481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C0142-638B-4CA1-8B1C-66E4C978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63CBD-35F3-480F-8A60-59D040A3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B92-21F9-4B87-9D15-544733D7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EBC4-82A3-4991-8474-0B12AEE5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A41AB-CBC6-4A69-823D-3166B74E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1B7AE-11A8-49FC-9C76-1DA58942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DF5FD-2FC0-48E1-9110-2C2E8995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305D-21B5-46C3-A096-DBB605F3C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F5023-074F-4BB5-B4C5-EDB25F3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784E1-6027-4C82-AFBC-8816E40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62F7F-1BCC-4A4D-894A-9DD1CF2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3D8CE-99AF-498F-B260-A7DE1A3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1279-888F-489C-B29A-369EF17D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CD4-45E9-42DB-B6FC-C4F9AB8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381E-2898-4252-A582-38B99F5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F5426-A9CF-4458-BB8C-2AD2306A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9955B-4C05-44E4-B250-D5F199F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FE43-151E-463E-BF3C-383F548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82A9-3D31-4975-9D6F-C8B3A5C0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928F8-6C60-4265-ABFA-C850499F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B2C5-9C04-4AE0-8653-CEEFFBAE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53176-F047-4F48-B278-D6C0FB19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66862-E593-4ED1-B6DA-409CC25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9183-06AF-4BBA-AD54-9A81698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E23E-DB52-49A1-9C4D-6187DA1B779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11D6-80E2-4475-A3F3-A525895E3137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EB4-2821-43CA-B1BC-AA35C8F8EA6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B3FF-BA75-4089-ABE1-1679B511E6E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BCB8-0DC6-41AE-A851-EBCB13953BD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91BB-038E-46DC-B2C0-7D3C625E9BBB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5618-32A0-4FA7-A4A6-7E1C6D3451DD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68B-E513-4892-92F5-5CAF1208DF94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3F13-2878-4B46-A03C-B83207BB76CE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9AB9-6613-44DA-89D0-F19D18AAB57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8013-8A5C-4C9A-9990-16E1BBA889A0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F416-328E-455F-8FA8-83F497DDBFFF}" type="slidenum">
              <a:rPr b="0" lang="pl-P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&amp;esrc=s&amp;frm=1&amp;source=images&amp;cd=&amp;cad=rja&amp;docid=x3O5PxcZ9wWfUM&amp;tbnid=JHO74gw_xqNUDM:&amp;ved=0CAUQjRw&amp;url=http%3A%2F%2Fwww.cauchy.pl%2Fmatura%2Fp_2006_11_p%2F5%2Findex.php&amp;ei=-qCaUcP2JcfnswbJ84GoBg&amp;bvm=bv.46751780,d.Yms&amp;psig=AFQjCNFssyByw83TLltqo_bdrGcZk9xnLA&amp;ust=1369174614896921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4055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Symetrie w układzie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rostokąt 4"/>
          <p:cNvSpPr/>
          <p:nvPr/>
        </p:nvSpPr>
        <p:spPr>
          <a:xfrm>
            <a:off x="1187280" y="404640"/>
            <a:ext cx="756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y mają równe drugie współrzędne, a pierwsze współrzędne 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i P’=(-x,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y, to punktem symetrycznym do niego względem osi y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34600" y="27432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początku układu współrzędny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rostokąt 2"/>
          <p:cNvSpPr/>
          <p:nvPr/>
        </p:nvSpPr>
        <p:spPr>
          <a:xfrm>
            <a:off x="1042920" y="3213000"/>
            <a:ext cx="7561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początku układu współrzędny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29" name="Elipsa 24"/>
          <p:cNvSpPr/>
          <p:nvPr/>
        </p:nvSpPr>
        <p:spPr>
          <a:xfrm>
            <a:off x="4454640" y="1052640"/>
            <a:ext cx="46080" cy="46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Elipsa 25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Elipsa 26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27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Elipsa 28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Elipsa 29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Łącznik prosty 30"/>
          <p:cNvSpPr/>
          <p:nvPr/>
        </p:nvSpPr>
        <p:spPr>
          <a:xfrm>
            <a:off x="4211640" y="1089000"/>
            <a:ext cx="550800" cy="2664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Elipsa 31"/>
          <p:cNvSpPr/>
          <p:nvPr/>
        </p:nvSpPr>
        <p:spPr>
          <a:xfrm>
            <a:off x="471636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Łącznik prosty 32"/>
          <p:cNvSpPr/>
          <p:nvPr/>
        </p:nvSpPr>
        <p:spPr>
          <a:xfrm flipH="1">
            <a:off x="3924000" y="1628640"/>
            <a:ext cx="1103400" cy="1513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Elipsa 33"/>
          <p:cNvSpPr/>
          <p:nvPr/>
        </p:nvSpPr>
        <p:spPr>
          <a:xfrm>
            <a:off x="392436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Łącznik prosty 34"/>
          <p:cNvSpPr/>
          <p:nvPr/>
        </p:nvSpPr>
        <p:spPr>
          <a:xfrm flipH="1" flipV="1">
            <a:off x="3459240" y="1884240"/>
            <a:ext cx="2031840" cy="1044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Elipsa 35"/>
          <p:cNvSpPr/>
          <p:nvPr/>
        </p:nvSpPr>
        <p:spPr>
          <a:xfrm>
            <a:off x="3419640" y="1844640"/>
            <a:ext cx="4572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Łącznik prosty 36"/>
          <p:cNvSpPr/>
          <p:nvPr/>
        </p:nvSpPr>
        <p:spPr>
          <a:xfrm flipV="1">
            <a:off x="3708360" y="1341000"/>
            <a:ext cx="1584360" cy="21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Elipsa 37"/>
          <p:cNvSpPr/>
          <p:nvPr/>
        </p:nvSpPr>
        <p:spPr>
          <a:xfrm>
            <a:off x="5292720" y="1268280"/>
            <a:ext cx="442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Elipsa 38"/>
          <p:cNvSpPr/>
          <p:nvPr/>
        </p:nvSpPr>
        <p:spPr>
          <a:xfrm flipH="1">
            <a:off x="291636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Łącznik prosty 39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ole tekstowe 40"/>
          <p:cNvSpPr/>
          <p:nvPr/>
        </p:nvSpPr>
        <p:spPr>
          <a:xfrm>
            <a:off x="541800" y="4437000"/>
            <a:ext cx="759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początku układu współrzęd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są punkty: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Łącznik prosty 55"/>
          <p:cNvSpPr/>
          <p:nvPr/>
        </p:nvSpPr>
        <p:spPr>
          <a:xfrm flipH="1" flipV="1">
            <a:off x="4460400" y="1091880"/>
            <a:ext cx="39960" cy="26240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Elipsa 59"/>
          <p:cNvSpPr/>
          <p:nvPr/>
        </p:nvSpPr>
        <p:spPr>
          <a:xfrm>
            <a:off x="4454640" y="371628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rostokąt 63" descr=""/>
          <p:cNvPicPr/>
          <p:nvPr/>
        </p:nvPicPr>
        <p:blipFill>
          <a:blip r:embed="rId2"/>
          <a:stretch/>
        </p:blipFill>
        <p:spPr>
          <a:xfrm>
            <a:off x="2249640" y="4979880"/>
            <a:ext cx="4627440" cy="206712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"/>
          <p:cNvSpPr/>
          <p:nvPr/>
        </p:nvSpPr>
        <p:spPr>
          <a:xfrm>
            <a:off x="999720" y="356400"/>
            <a:ext cx="732672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Uwag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spółrzędne punktów symetrycznych 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względem początku układu współrzędnych</a:t>
            </a:r>
            <a:br>
              <a:rPr sz="2800"/>
            </a:b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są liczbami przeciwnymi, 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 P’=(-x,-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72314"/>
                </a:solidFill>
                <a:latin typeface="Gill Sans MT"/>
              </a:rPr>
              <a:t>Pomysły zadań i ćwiczeń zostały zaczerpnięte z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rostokąt 2"/>
          <p:cNvSpPr/>
          <p:nvPr/>
        </p:nvSpPr>
        <p:spPr>
          <a:xfrm>
            <a:off x="1042920" y="1628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matematyka.opracowania.pl/gimnazjum/symetrie_w_uk%C5%82adzie_wsp%C3%B3%C5%82rz%C4%99dnych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rostokąt 3"/>
          <p:cNvSpPr/>
          <p:nvPr/>
        </p:nvSpPr>
        <p:spPr>
          <a:xfrm>
            <a:off x="1042920" y="2276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mana6.pl/tablice_matematyczne/liceum/geometria_analityczna/62-uklad_wspolrze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rostokąt 4"/>
          <p:cNvSpPr/>
          <p:nvPr/>
        </p:nvSpPr>
        <p:spPr>
          <a:xfrm>
            <a:off x="1024200" y="2997360"/>
            <a:ext cx="45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ww.math.edu.pl/uklad-kartezjan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rostokąt 5"/>
          <p:cNvSpPr/>
          <p:nvPr/>
        </p:nvSpPr>
        <p:spPr>
          <a:xfrm>
            <a:off x="1008000" y="3357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http://wiki.wolnepodreczniki.pl/Matematyka:Gimnazjum/Kartezja%C5%84ski_uk%C5%82ad_wsp%C3%B3%C5%82rz%C4%99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572314"/>
                </a:solidFill>
                <a:latin typeface="Gill Sans MT"/>
              </a:rPr>
              <a:t>Prostokątny układ współrzędnych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ole tekstowe 9"/>
          <p:cNvSpPr/>
          <p:nvPr/>
        </p:nvSpPr>
        <p:spPr>
          <a:xfrm>
            <a:off x="1042920" y="364644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Ćwiczen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kreśl położenie Multik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ole tekstowe 10"/>
          <p:cNvSpPr/>
          <p:nvPr/>
        </p:nvSpPr>
        <p:spPr>
          <a:xfrm>
            <a:off x="1042920" y="1413000"/>
            <a:ext cx="22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czego służ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kład współrzędny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C:\Users\temp\Desktop\PPWK_Wloclawek_A4.jpg"/>
          <p:cNvPicPr/>
          <p:nvPr/>
        </p:nvPicPr>
        <p:blipFill>
          <a:blip r:embed="rId1"/>
          <a:stretch/>
        </p:blipFill>
        <p:spPr>
          <a:xfrm>
            <a:off x="4427640" y="1284120"/>
            <a:ext cx="4427280" cy="5384880"/>
          </a:xfrm>
          <a:prstGeom prst="rect">
            <a:avLst/>
          </a:prstGeom>
          <a:ln w="0">
            <a:noFill/>
          </a:ln>
        </p:spPr>
      </p:pic>
      <p:sp>
        <p:nvSpPr>
          <p:cNvPr id="563" name="pole tekstowe 5"/>
          <p:cNvSpPr/>
          <p:nvPr/>
        </p:nvSpPr>
        <p:spPr>
          <a:xfrm>
            <a:off x="1698480" y="551664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Odpowied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3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ole tekstowe 8"/>
          <p:cNvSpPr/>
          <p:nvPr/>
        </p:nvSpPr>
        <p:spPr>
          <a:xfrm>
            <a:off x="890280" y="2567160"/>
            <a:ext cx="30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kła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Tesco leży w kwadracie 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rostokąt 2"/>
          <p:cNvSpPr/>
          <p:nvPr/>
        </p:nvSpPr>
        <p:spPr>
          <a:xfrm>
            <a:off x="1042920" y="260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 określenia położenia punktu na płaszczyźnie używamy prostokątnego układu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ole tekstowe 9"/>
          <p:cNvSpPr/>
          <p:nvPr/>
        </p:nvSpPr>
        <p:spPr>
          <a:xfrm>
            <a:off x="1042920" y="98100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ostokątny układ współrzędnych tworzą dwie prostopadłe osie liczbowe, które dzielą płaszczyznę na cztery ćwiartki.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 przecięcia się osi nazywamy początkiem układu współrzęd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"/>
          <p:cNvPicPr/>
          <p:nvPr/>
        </p:nvPicPr>
        <p:blipFill>
          <a:blip r:embed="rId4"/>
          <a:stretch/>
        </p:blipFill>
        <p:spPr>
          <a:xfrm>
            <a:off x="3852720" y="981000"/>
            <a:ext cx="4748400" cy="440856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8"/>
          <p:cNvSpPr/>
          <p:nvPr/>
        </p:nvSpPr>
        <p:spPr>
          <a:xfrm>
            <a:off x="1150920" y="5292000"/>
            <a:ext cx="77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ierwszą liczbą  jest  współrzędna x, którą odczytujemy na osi poziomej x (oś odciętyc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rugą liczbą jest współrzędna y, którą odczytujemy na osi pionowej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ś rzędnych)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rostokąt 13"/>
          <p:cNvSpPr/>
          <p:nvPr/>
        </p:nvSpPr>
        <p:spPr>
          <a:xfrm>
            <a:off x="1042920" y="3751200"/>
            <a:ext cx="28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ołożenie punktu w układzie współrzędnych określamy za pomocą współrzędn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           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P=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http://www.matmana6.pl/zdjecia/szkola_srednia/geometria_analityczna/uklad_wspolrzednych_6.png"/>
          <p:cNvPicPr/>
          <p:nvPr/>
        </p:nvPicPr>
        <p:blipFill>
          <a:blip r:embed="rId1"/>
          <a:stretch/>
        </p:blipFill>
        <p:spPr>
          <a:xfrm>
            <a:off x="2914560" y="262080"/>
            <a:ext cx="3962520" cy="3273120"/>
          </a:xfrm>
          <a:prstGeom prst="rect">
            <a:avLst/>
          </a:prstGeom>
          <a:ln w="0">
            <a:noFill/>
          </a:ln>
        </p:spPr>
      </p:pic>
      <p:sp>
        <p:nvSpPr>
          <p:cNvPr id="571" name="Prostokąt 4"/>
          <p:cNvSpPr/>
          <p:nvPr/>
        </p:nvSpPr>
        <p:spPr>
          <a:xfrm>
            <a:off x="1042920" y="3645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Dopasuj do punktów ich współrzę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B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ole tekstowe 5"/>
          <p:cNvSpPr/>
          <p:nvPr/>
        </p:nvSpPr>
        <p:spPr>
          <a:xfrm>
            <a:off x="992520" y="18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Ćwiczen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Grupa 5" descr=""/>
          <p:cNvPicPr/>
          <p:nvPr/>
        </p:nvPicPr>
        <p:blipFill>
          <a:blip r:embed="rId2"/>
          <a:stretch/>
        </p:blipFill>
        <p:spPr>
          <a:xfrm>
            <a:off x="184140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4" name="Grupa 8" descr=""/>
          <p:cNvPicPr/>
          <p:nvPr/>
        </p:nvPicPr>
        <p:blipFill>
          <a:blip r:embed="rId3"/>
          <a:stretch/>
        </p:blipFill>
        <p:spPr>
          <a:xfrm>
            <a:off x="184140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75" name="Grupa 14" descr=""/>
          <p:cNvPicPr/>
          <p:nvPr/>
        </p:nvPicPr>
        <p:blipFill>
          <a:blip r:embed="rId4"/>
          <a:stretch/>
        </p:blipFill>
        <p:spPr>
          <a:xfrm>
            <a:off x="1841400" y="421812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6" name="Grupa 17" descr=""/>
          <p:cNvPicPr/>
          <p:nvPr/>
        </p:nvPicPr>
        <p:blipFill>
          <a:blip r:embed="rId5"/>
          <a:stretch/>
        </p:blipFill>
        <p:spPr>
          <a:xfrm>
            <a:off x="42670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77" name="Grupa 20" descr=""/>
          <p:cNvPicPr/>
          <p:nvPr/>
        </p:nvPicPr>
        <p:blipFill>
          <a:blip r:embed="rId6"/>
          <a:stretch/>
        </p:blipFill>
        <p:spPr>
          <a:xfrm>
            <a:off x="4290840" y="4870440"/>
            <a:ext cx="1665360" cy="811080"/>
          </a:xfrm>
          <a:prstGeom prst="rect">
            <a:avLst/>
          </a:prstGeom>
          <a:ln w="0">
            <a:noFill/>
          </a:ln>
        </p:spPr>
      </p:pic>
      <p:pic>
        <p:nvPicPr>
          <p:cNvPr id="578" name="Grupa 23" descr=""/>
          <p:cNvPicPr/>
          <p:nvPr/>
        </p:nvPicPr>
        <p:blipFill>
          <a:blip r:embed="rId7"/>
          <a:stretch/>
        </p:blipFill>
        <p:spPr>
          <a:xfrm>
            <a:off x="4290840" y="4218120"/>
            <a:ext cx="1665360" cy="817560"/>
          </a:xfrm>
          <a:prstGeom prst="rect">
            <a:avLst/>
          </a:prstGeom>
          <a:ln w="0">
            <a:noFill/>
          </a:ln>
        </p:spPr>
      </p:pic>
      <p:pic>
        <p:nvPicPr>
          <p:cNvPr id="579" name="Grupa 26" descr=""/>
          <p:cNvPicPr/>
          <p:nvPr/>
        </p:nvPicPr>
        <p:blipFill>
          <a:blip r:embed="rId8"/>
          <a:stretch/>
        </p:blipFill>
        <p:spPr>
          <a:xfrm>
            <a:off x="6662880" y="5516640"/>
            <a:ext cx="1670040" cy="817560"/>
          </a:xfrm>
          <a:prstGeom prst="rect">
            <a:avLst/>
          </a:prstGeom>
          <a:ln w="0">
            <a:noFill/>
          </a:ln>
        </p:spPr>
      </p:pic>
      <p:pic>
        <p:nvPicPr>
          <p:cNvPr id="580" name="Grupa 29" descr=""/>
          <p:cNvPicPr/>
          <p:nvPr/>
        </p:nvPicPr>
        <p:blipFill>
          <a:blip r:embed="rId9"/>
          <a:stretch/>
        </p:blipFill>
        <p:spPr>
          <a:xfrm>
            <a:off x="6662880" y="4870440"/>
            <a:ext cx="1670040" cy="811080"/>
          </a:xfrm>
          <a:prstGeom prst="rect">
            <a:avLst/>
          </a:prstGeom>
          <a:ln w="0">
            <a:noFill/>
          </a:ln>
        </p:spPr>
      </p:pic>
      <p:pic>
        <p:nvPicPr>
          <p:cNvPr id="581" name="Grupa 32" descr=""/>
          <p:cNvPicPr/>
          <p:nvPr/>
        </p:nvPicPr>
        <p:blipFill>
          <a:blip r:embed="rId10"/>
          <a:stretch/>
        </p:blipFill>
        <p:spPr>
          <a:xfrm>
            <a:off x="6662880" y="4218120"/>
            <a:ext cx="1670040" cy="81756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rostokąt 6"/>
          <p:cNvSpPr/>
          <p:nvPr/>
        </p:nvSpPr>
        <p:spPr>
          <a:xfrm>
            <a:off x="1041480" y="2622600"/>
            <a:ext cx="763416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Gill Sans MT"/>
              </a:rPr>
              <a:t>Zadanie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       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4300"/>
            </a:br>
            <a:r>
              <a:rPr b="0" lang="pl-PL" sz="4300" spc="-1" strike="noStrike">
                <a:solidFill>
                  <a:srgbClr val="572314"/>
                </a:solidFill>
                <a:latin typeface="Gill Sans MT"/>
              </a:rPr>
              <a:t>względem osi x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http://www.cauchy.pl/matura/p_2006_11_p/5/uklad_wspolrzednych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pic>
        <p:nvPicPr>
          <p:cNvPr id="585" name="Prostokąt 7" descr=""/>
          <p:cNvPicPr/>
          <p:nvPr/>
        </p:nvPicPr>
        <p:blipFill>
          <a:blip r:embed="rId3"/>
          <a:stretch/>
        </p:blipFill>
        <p:spPr>
          <a:xfrm>
            <a:off x="2828880" y="4748040"/>
            <a:ext cx="4619520" cy="2067120"/>
          </a:xfrm>
          <a:prstGeom prst="rect">
            <a:avLst/>
          </a:prstGeom>
          <a:ln w="0">
            <a:noFill/>
          </a:ln>
        </p:spPr>
      </p:pic>
      <p:sp>
        <p:nvSpPr>
          <p:cNvPr id="586" name="Elipsa 10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lipsa 11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Elipsa 12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Elipsa 13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Elipsa 14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lipsa 15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Łącznik prosty 17"/>
          <p:cNvSpPr/>
          <p:nvPr/>
        </p:nvSpPr>
        <p:spPr>
          <a:xfrm>
            <a:off x="4492800" y="1114560"/>
            <a:ext cx="7920" cy="2601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Elipsa 18"/>
          <p:cNvSpPr/>
          <p:nvPr/>
        </p:nvSpPr>
        <p:spPr>
          <a:xfrm>
            <a:off x="4454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Łącznik prosty 20"/>
          <p:cNvSpPr/>
          <p:nvPr/>
        </p:nvSpPr>
        <p:spPr>
          <a:xfrm flipH="1">
            <a:off x="4211640" y="1063800"/>
            <a:ext cx="6480" cy="2652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Elipsa 21"/>
          <p:cNvSpPr/>
          <p:nvPr/>
        </p:nvSpPr>
        <p:spPr>
          <a:xfrm>
            <a:off x="4211640" y="3716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Łącznik prosty 23"/>
          <p:cNvSpPr/>
          <p:nvPr/>
        </p:nvSpPr>
        <p:spPr>
          <a:xfrm flipH="1">
            <a:off x="5003640" y="1617840"/>
            <a:ext cx="6480" cy="1595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Elipsa 24"/>
          <p:cNvSpPr/>
          <p:nvPr/>
        </p:nvSpPr>
        <p:spPr>
          <a:xfrm>
            <a:off x="5003640" y="314172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Łącznik prosty 30"/>
          <p:cNvSpPr/>
          <p:nvPr/>
        </p:nvSpPr>
        <p:spPr>
          <a:xfrm flipV="1">
            <a:off x="5573880" y="1844640"/>
            <a:ext cx="6120" cy="109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Elipsa 33"/>
          <p:cNvSpPr/>
          <p:nvPr/>
        </p:nvSpPr>
        <p:spPr>
          <a:xfrm>
            <a:off x="5533920" y="184464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Łącznik prosty 35"/>
          <p:cNvSpPr/>
          <p:nvPr/>
        </p:nvSpPr>
        <p:spPr>
          <a:xfrm flipV="1">
            <a:off x="3700440" y="1341360"/>
            <a:ext cx="7920" cy="209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36"/>
          <p:cNvSpPr/>
          <p:nvPr/>
        </p:nvSpPr>
        <p:spPr>
          <a:xfrm>
            <a:off x="3662280" y="1268280"/>
            <a:ext cx="4608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rostokąt 37"/>
          <p:cNvSpPr/>
          <p:nvPr/>
        </p:nvSpPr>
        <p:spPr>
          <a:xfrm>
            <a:off x="1246680" y="4438800"/>
            <a:ext cx="57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x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rostokąt 3"/>
          <p:cNvSpPr/>
          <p:nvPr/>
        </p:nvSpPr>
        <p:spPr>
          <a:xfrm>
            <a:off x="1116000" y="189000"/>
            <a:ext cx="7128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000000"/>
                </a:solidFill>
                <a:latin typeface="Gill Sans MT"/>
              </a:rPr>
              <a:t>Uwaga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Punkty symetryczne względem osi x mają równe pierwsze współrzędne, a drugie współrzędne są liczbami przeciwnymi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czyli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P=(x,y)    i    P’=(x,-y)</a:t>
            </a:r>
            <a:br>
              <a:rPr sz="2800"/>
            </a:br>
            <a:r>
              <a:rPr b="0" i="1" lang="pl-P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Gill Sans MT"/>
              </a:rPr>
              <a:t>Jeżeli punkt leży na osi x, to punktem symetrycznym do niego względem osi x jest ten sam pun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772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Punkty symetryczne </a:t>
            </a:r>
            <a:br>
              <a:rPr sz="3900"/>
            </a:br>
            <a:r>
              <a:rPr b="1" lang="pl-PL" sz="3900" spc="-1" strike="noStrike">
                <a:solidFill>
                  <a:srgbClr val="572314"/>
                </a:solidFill>
                <a:latin typeface="Gill Sans MT"/>
              </a:rPr>
              <a:t>względem osi 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rostokąt 2"/>
          <p:cNvSpPr/>
          <p:nvPr/>
        </p:nvSpPr>
        <p:spPr>
          <a:xfrm>
            <a:off x="1403280" y="2921040"/>
            <a:ext cx="7416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danie 2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Zaznacz w układzie współrzędnych punkty: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A = (2,3);  B = (-1,5);  C = (4,-2);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D = (-3,-4);  E = (0,5);  F = (6, 0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Gill Sans MT"/>
              </a:rPr>
              <a:t>i znajdź punkty do nich symetryczne względem os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http://www.cauchy.pl/matura/p_2006_11_p/5/uklad_wspolrzednych.gif"/>
          <p:cNvPicPr/>
          <p:nvPr/>
        </p:nvPicPr>
        <p:blipFill>
          <a:blip r:embed="rId1"/>
          <a:stretch/>
        </p:blipFill>
        <p:spPr>
          <a:xfrm>
            <a:off x="2328840" y="24912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607" name="Elipsa 5"/>
          <p:cNvSpPr/>
          <p:nvPr/>
        </p:nvSpPr>
        <p:spPr>
          <a:xfrm>
            <a:off x="4454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Elipsa 6"/>
          <p:cNvSpPr/>
          <p:nvPr/>
        </p:nvSpPr>
        <p:spPr>
          <a:xfrm>
            <a:off x="6039000" y="2349360"/>
            <a:ext cx="45720" cy="7164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Elipsa 7"/>
          <p:cNvSpPr/>
          <p:nvPr/>
        </p:nvSpPr>
        <p:spPr>
          <a:xfrm>
            <a:off x="3662280" y="342900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lipsa 8"/>
          <p:cNvSpPr/>
          <p:nvPr/>
        </p:nvSpPr>
        <p:spPr>
          <a:xfrm>
            <a:off x="5533920" y="2924280"/>
            <a:ext cx="46080" cy="73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Elipsa 9"/>
          <p:cNvSpPr/>
          <p:nvPr/>
        </p:nvSpPr>
        <p:spPr>
          <a:xfrm>
            <a:off x="4211640" y="1052640"/>
            <a:ext cx="46080" cy="72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Elipsa 10"/>
          <p:cNvSpPr/>
          <p:nvPr/>
        </p:nvSpPr>
        <p:spPr>
          <a:xfrm>
            <a:off x="5003640" y="1557360"/>
            <a:ext cx="46080" cy="712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Łącznik prosty 13"/>
          <p:cNvSpPr/>
          <p:nvPr/>
        </p:nvSpPr>
        <p:spPr>
          <a:xfrm>
            <a:off x="4211640" y="1089000"/>
            <a:ext cx="550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lipsa 14"/>
          <p:cNvSpPr/>
          <p:nvPr/>
        </p:nvSpPr>
        <p:spPr>
          <a:xfrm>
            <a:off x="4716360" y="1052640"/>
            <a:ext cx="46080" cy="7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Łącznik prosty 15"/>
          <p:cNvSpPr/>
          <p:nvPr/>
        </p:nvSpPr>
        <p:spPr>
          <a:xfrm flipH="1">
            <a:off x="3995640" y="1617840"/>
            <a:ext cx="1014480" cy="10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lipsa 16"/>
          <p:cNvSpPr/>
          <p:nvPr/>
        </p:nvSpPr>
        <p:spPr>
          <a:xfrm>
            <a:off x="3924360" y="155736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Łącznik prosty 17"/>
          <p:cNvSpPr/>
          <p:nvPr/>
        </p:nvSpPr>
        <p:spPr>
          <a:xfrm flipH="1">
            <a:off x="3425400" y="2935440"/>
            <a:ext cx="214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lipsa 18"/>
          <p:cNvSpPr/>
          <p:nvPr/>
        </p:nvSpPr>
        <p:spPr>
          <a:xfrm>
            <a:off x="3419640" y="2924280"/>
            <a:ext cx="4572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Łącznik prosty 19"/>
          <p:cNvSpPr/>
          <p:nvPr/>
        </p:nvSpPr>
        <p:spPr>
          <a:xfrm>
            <a:off x="3708360" y="3465360"/>
            <a:ext cx="1511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lipsa 20"/>
          <p:cNvSpPr/>
          <p:nvPr/>
        </p:nvSpPr>
        <p:spPr>
          <a:xfrm>
            <a:off x="5219640" y="3429000"/>
            <a:ext cx="460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Elipsa 29"/>
          <p:cNvSpPr/>
          <p:nvPr/>
        </p:nvSpPr>
        <p:spPr>
          <a:xfrm>
            <a:off x="2870280" y="2349360"/>
            <a:ext cx="460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Łącznik prosty 30"/>
          <p:cNvSpPr/>
          <p:nvPr/>
        </p:nvSpPr>
        <p:spPr>
          <a:xfrm flipH="1">
            <a:off x="2987280" y="2421000"/>
            <a:ext cx="3073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rostokąt 33"/>
          <p:cNvSpPr/>
          <p:nvPr/>
        </p:nvSpPr>
        <p:spPr>
          <a:xfrm>
            <a:off x="1116000" y="436716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unktami symetrycznymi względem osi y są punk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rostokąt 34" descr=""/>
          <p:cNvPicPr/>
          <p:nvPr/>
        </p:nvPicPr>
        <p:blipFill>
          <a:blip r:embed="rId2"/>
          <a:stretch/>
        </p:blipFill>
        <p:spPr>
          <a:xfrm>
            <a:off x="2073240" y="4681440"/>
            <a:ext cx="4619520" cy="2060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8:39:31Z</dcterms:created>
  <dc:creator>temp</dc:creator>
  <dc:description/>
  <dc:language>en-US</dc:language>
  <cp:lastModifiedBy>Ania</cp:lastModifiedBy>
  <dcterms:modified xsi:type="dcterms:W3CDTF">2013-05-27T20:44:52Z</dcterms:modified>
  <cp:revision>58</cp:revision>
  <dc:subject/>
  <dc:title>Symetrie w układzie współrzędnych</dc:title>
</cp:coreProperties>
</file>